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03C-95D6-4791-809C-40499893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3DA-0062-45F7-8D83-4B7D1275BD05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0925-AF18-42C3-8601-A747BD665007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gs, or Web logs, are like online journals; MySpace/Facebook are the most popular blogging platfor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e a secure/private environment for educational journaling with peer feed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86DC-0D2A-4D58-90EF-2309931D9E97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753C-900D-42E0-B64C-AC48D59CB0A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02E-58A0-498C-8050-6B8E06C0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99F-8D1A-441C-AA8E-0D56698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FBD48-FA72-4DC2-943A-3FF63779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57417-D952-47FA-B460-90B583C9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BD958-0BA1-4EDF-B40E-F219D5C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1E6A0-DB1E-44E3-A72C-D0A129E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E606B-876C-4B0F-8089-92E49F7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71DE-BD56-4797-9EC3-3BE0D92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2B70-DBC8-446D-8722-3BA3233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7F0FC-2CD6-4101-9FAA-27690D90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C83FE-2E40-4D73-8859-9CE3E8EF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A83F9-FFD6-46BE-A43D-5FFCA67A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C74-346F-4E47-9530-B4063902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C459-DFDE-4C64-A284-7461E13E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B5C17-D8CC-410D-B0C6-5CAD845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FD7B4-C69E-462C-BF90-F324447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E6C7E-AA92-410D-BD2B-42EA931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FCFA8-39AE-485D-9498-60A6B64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0D99D-0664-4842-BC18-B6F6E5C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97DAF-8CDA-45BD-9B4E-1FE2ADE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A198-DF80-494F-BFB9-3966FE1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E387-2E59-4572-B3C7-4D15252E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9A8D8-2EB7-49FE-92B4-49658AB2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1AE-F477-459D-B3FA-350A7AA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EC477-DB3F-4F41-89D3-945BC7A1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F3AF-1C92-4652-8C29-43145912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E699-A25E-4A25-A2E7-71665C10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90C84-3319-49D3-A92B-FC31D47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C549C-6212-4F3E-850C-09D60ADF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AE70-40AA-48BC-9716-FFFC731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C748-0431-4A9A-96F6-F7B1BF32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CB899-E22D-4BEA-A65E-98FCD82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9E3A2-B1D3-4BD9-B42A-2849AC4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2C482-7E95-4996-B498-4D021CB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0DA4-1A20-49E1-BF2E-C5035F41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DF8D-03B6-48F1-9F47-4CA2B66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D0771-951A-45D3-AE36-9EEF6F25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4FA98-3138-4D27-82F9-CCFE3907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8FAD5-6107-40A8-BAE1-2B4AF3B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F15DD-C454-4820-8228-26BCD29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81EB8-ED0B-45EA-91A9-F55A52AE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CE2AB-4B3A-42BA-91E5-033FCB4E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A4655-AB51-4C75-AE3C-8DFC0CB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EAD49-22EC-4624-A03D-160DF4FC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9B620-D2EC-49D0-A778-43A03C4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72D-8B5A-4746-B4BA-88C2A20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5F576-E3BA-4F88-A2A4-4D33590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83DF-BFAF-49B7-98DF-50778D6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6F209-55F5-46CA-A36D-38536F7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DE2D5-A066-4FF8-A82F-906EE09A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5D679-979F-4B26-ACE5-6F40EB1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76CB-ADB1-4CB3-B11E-FE51628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5CFE-244B-47BE-A6E1-2025BC1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C3B3-8D9A-4866-8E32-7F81944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DDB-0250-41B2-9A33-5BB0E02A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C823-0890-4FCD-86BC-7CE736C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46A-69CB-43A7-A2BD-DC6E8B3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7DC-23B9-4D8E-8AAB-D4E573C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32E-5981-4DE6-A2D6-B456CA0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E7B4-748A-4F46-8982-C165352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D0D-E606-4482-8C2B-23AF4F36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151D-7451-4DB1-9FFF-02E7CE9B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6B55-AB10-4FB1-8F01-349F58D7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FFB3-E700-453F-A4AC-C157671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7003-FA04-4533-B79F-361EB774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161B-A922-4985-8B52-2060EF2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4B22-92D6-42F5-9647-D57E388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E16-E6B9-494C-9FA5-36220B8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C04F-4AB0-4BBC-B804-E85B348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BCDF-5F65-435B-AA2E-CDE597E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E9FC-C640-4DB9-B9D2-3CB2B01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ACE7-15BF-40CE-B773-230BDA9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FDAF-5222-4DA1-8165-1115823B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116F-E145-4B90-B843-5E069E0D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8CBB-48E9-4919-9601-C5032588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C9E6-D9C8-4151-BEF3-9FBF33C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7C68-8F2F-4B89-B185-489B437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EBD1-51BD-4B60-9D42-4486B37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166-59F0-4275-A6ED-A46BF039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B168-05F1-442F-B4A9-369A5A49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C06D-CD49-440E-9368-009CC91E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CD3F-C4A9-49AE-BA84-BAE92BC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065D-F9C8-489A-A3E5-9175D9E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5AAE-FC52-49D6-914A-8DF387B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2374-1C0F-4473-8ACC-0324B17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FE82-2C2A-417D-91D9-239F055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B5C6-0047-4DB1-96E5-0451EADF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47AD-F31E-4D70-BDC1-AE089985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7264-521A-4646-856F-073BB13F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CC9-1D9B-41E2-AAF7-6544A2E5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1A1D-2FE5-4606-9794-22FA9AA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8784-078F-4E99-995E-5E54D362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24DE-67DD-4F74-950C-9A684E1E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1739-5FAB-457D-918D-E1E8071F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CB4B-C95B-43FD-A873-2EEFE8C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CB1A-94C7-4E65-AA6C-AF99EF0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BA1E-1A3F-426A-851F-D9E98CA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05D9-06FD-405B-BD37-A186099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AE07-6ED7-4943-AA11-8CBFD993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EEBA-DC1F-4EB1-A900-9F1C9D40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0EB-417C-4377-9B47-BD068A7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87A3-32E0-4B9B-92B0-5B6F6531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55E4-0249-4E0C-A24B-DDDA9B4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8E15-2B51-459A-9306-8536254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863EF-F337-43FB-94BB-280796D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C87AA-85C4-4821-99F7-5DE27B28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6CDEB-86C0-4622-8B4E-58E32F9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4947-B5DF-446F-967C-DF75ADB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B56E-A214-489E-8731-8D7C457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AFDB-3880-4A7B-9D26-2F4F5BB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86EA-D7A1-431A-B7AD-1AB6DA6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13C-096B-4012-8608-773DFB6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3567-6D65-4F36-AC99-99F3C54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F468-766A-4657-87A1-262F9E08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18D0-A2A2-4358-94CA-332B5FCE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E6BC-15E5-441D-BA1D-6C3B2E2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5AC6-2D06-4AF8-90F5-7648E26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4942-B3FC-4A97-8B21-3A0753C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7440-9712-4018-9872-70179EAF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CBF0-D38B-40A1-84F0-FF5C8C8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223C-2C78-4297-B3A2-E316F5B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0A512-5B9B-4E32-B1BD-6A24873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51F-15B5-4419-8F9E-A2E1A07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F6BA-AC8E-4620-AEE1-8D27370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CC96-BB44-4F7D-80CE-1212B9D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285E-AF7A-478A-B6C0-C1939173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7548-C142-4DFE-8FE6-B6695F6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BC2C6-E746-426C-B797-559A96B2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2F68-D2E3-4450-8734-BB1009FE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25C8-6E5C-4C28-B284-4980E878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9EAB-C05A-4033-B996-DB99677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D9888-2681-476D-92E4-7FAD917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F164-B041-416A-8326-95F26FAE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78E-C831-444A-82C7-7450D7D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692B-A5D1-46F1-B073-438C23C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9C64D-DA38-43DD-96F2-09D4242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B623-351C-4A79-B358-133F147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982A-061A-4F26-A9C9-70FEDEA7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DD90-6A65-4E45-85DB-EB1544A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F3296-B647-4FA7-BC0B-F067A4C2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18664-0675-44F8-BE3C-3C62F70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69DBC-4EFA-4874-A75A-5A812EED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A44C5-28F0-498D-941E-EF0A9B3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1AF43-2957-4D21-A659-8EEB7C0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02E6-7B95-46DF-A433-5CFDBD8D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131-C02F-41CF-9995-A9B32705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7DC-A854-4BF1-A117-9E7CAB77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E673-C700-494E-B3DA-530D6A0CE2D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5AE-D4C3-43E3-A713-6526B40B4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EE9-9DD2-4D5D-B7E5-36474AC86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19B-DBF1-4931-82B8-40F91634B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6FC-2A86-4BFA-82B7-3C07F2863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170-141C-4A53-A5BD-9B4F8EEA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7F4-42EB-4B94-BFF1-2E03B179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2020-BE70-45D8-AFC0-9E14129C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F68-D88B-4717-81E5-5804DB3A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verso.co.nz/mw/index.php?title=The_Read-Write_Matrix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Blogging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  <p:pic>
        <p:nvPicPr>
          <p:cNvPr id="502" name="msjWeb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b logs are chronological online personal journals with reflections, comments and often links to other Web sites produced by the writer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thers may subscribe to a person's blog, which allows them to read it and write comments in response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ages, video and audio can be embedded as wel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983-1990 – Newsgroups, Pre-HTTP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994: First official Blo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term "weblog" was coined in 1997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short form, "blog“, was coined in 1999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y 2001, blogging was becoming common-pla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word blog quickly adopted as both a noun and verb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 blog: meaning "to edit one's weblog or to post to one's weblog"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Joe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blogge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bout his vacatio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e was very happy with his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blo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he read-write matrix of Web 2.0 tool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476440" y="18525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4"/>
          <p:cNvSpPr/>
          <p:nvPr/>
        </p:nvSpPr>
        <p:spPr>
          <a:xfrm>
            <a:off x="2133720" y="60958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7b89"/>
                </a:solidFill>
                <a:uFillTx/>
                <a:latin typeface="Times New Roman"/>
                <a:hlinkClick r:id="rId2"/>
              </a:rPr>
              <a:t>http://www.verso.co.nz/mw/index.php?title=The_Read-Write_Matri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46:26Z</dcterms:modified>
  <cp:revision>78</cp:revision>
  <dc:subject/>
  <dc:title>ED 670 Bl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